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FB2-C384-4C69-B0CF-FD90003A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A15-09FA-4CB7-BF7C-92470BFD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1AF-7248-4BEB-B4CC-F0F8DE44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53F-1C82-4FFD-A418-2E268899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7276-56AD-48DA-98DA-34FB460A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DABC-42FB-41DD-922E-4CB3BC0C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9957-0AF2-42A4-B2DF-9CA700A9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3181-78FA-45F7-AB4B-9622402C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36E9-F1FF-419A-8980-8DBCEF41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39F9-0DCA-432C-AED7-D3555CF2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6828-395D-4E78-A760-E6141E7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8F0-9E79-4098-A59B-557C7398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AB48-0770-4C17-9E89-1AD539A6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C7D9-0D62-4224-9E3F-B2C94EFA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C372-34B9-4AB6-8408-93F939EF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EF30-F03F-41F3-994F-F444A9CB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5041-BA8F-4467-BC12-08945070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647-31E7-425A-AA48-7ED00EBD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9D4-1449-44F6-8CEC-E0335F35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42F-CE5F-43AF-9102-D2BB91EC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E11-FD52-4807-B419-AD3E2D20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A1B-C70F-4B80-84A1-9DC448F2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8A8-CE01-47BE-AB90-3642576A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400-CF05-4F19-93C1-CAAB6D8D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0508-FC51-4E71-9768-C9D82D45BF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92E6-7E7D-47AC-BFE6-C7C1FBAB94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21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1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four most abundant elements in living cells?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, oxygen, hydrogen, nitrog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38:46Z</dcterms:created>
  <dc:creator>WaiverDay</dc:creator>
  <dc:description/>
  <dc:language>en-US</dc:language>
  <cp:lastModifiedBy>PritchaJ</cp:lastModifiedBy>
  <dcterms:modified xsi:type="dcterms:W3CDTF">2011-06-01T13:52:28Z</dcterms:modified>
  <cp:revision>3</cp:revision>
  <dc:subject/>
  <dc:title>Biochemistry Bellringer #4</dc:title>
</cp:coreProperties>
</file>